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94448"/>
        <c:axId val="70871963"/>
      </c:barChart>
      <c:catAx>
        <c:axId val="8039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1963"/>
        <c:crosses val="autoZero"/>
        <c:auto val="1"/>
        <c:lblAlgn val="ctr"/>
        <c:lblOffset val="100"/>
        <c:noMultiLvlLbl val="0"/>
      </c:catAx>
      <c:valAx>
        <c:axId val="70871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9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8A4-8355-42DB-87A0-FAB2B698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BA6-4857-4156-AEB8-93711CAA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8BE-CE3C-467A-9701-13E44EFC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6B8-89FD-4D92-9966-B717DC27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2BD-7B90-41A8-AB53-2561072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868-F4FB-4EC9-AB51-DDC75CC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FC5-50D6-426B-A1CF-BDEDD21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1D1-6FD3-4F26-9B46-42185CBF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554-8EA3-43A1-AB12-5E7AC9A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B38-F308-400A-A471-C499411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6B1-75A0-4ADE-8942-DC946AD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917-95E4-4B81-9AB5-02CEEE7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73A4C-B7FF-4FDB-A02A-B913755510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