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07643"/>
        <c:axId val="37195644"/>
      </c:barChart>
      <c:catAx>
        <c:axId val="28707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95644"/>
        <c:crosses val="autoZero"/>
        <c:auto val="1"/>
        <c:lblAlgn val="ctr"/>
        <c:lblOffset val="100"/>
        <c:noMultiLvlLbl val="0"/>
      </c:catAx>
      <c:valAx>
        <c:axId val="3719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7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AAE-A578-4686-9C70-72DDD0FE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600-7926-4896-8688-9AE3CB31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E05-4D61-4E37-A1D3-AE754D7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107-34A7-48E2-925C-B7EC4852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AF6-654E-454B-8404-B5A81D44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1D5-FBA6-46A9-B521-596DE2BD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969-DB1A-41A9-9936-EFF33190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37A-DF7A-4241-860E-B9E5DCF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FFF-A137-4ED7-A042-ABA6B66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DEA-C3F4-43FF-9B9D-7A7ED31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59E-C7A1-4AE1-9C6C-DEE06F8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90B-A436-45A9-A3AF-CEB1D65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0488-AD36-4139-AEF0-5A93969E2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