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10360"/>
        <c:axId val="97207380"/>
      </c:barChart>
      <c:catAx>
        <c:axId val="67610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07380"/>
        <c:crosses val="autoZero"/>
        <c:auto val="1"/>
        <c:lblAlgn val="ctr"/>
        <c:lblOffset val="100"/>
        <c:noMultiLvlLbl val="0"/>
      </c:catAx>
      <c:valAx>
        <c:axId val="97207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10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48B-D2DC-4835-AC48-4714B5FE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A3A-BDB4-4213-975A-174DB553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570-3811-4314-9C72-FCE53709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AD2-1B50-4E7F-B216-516CED3E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83E-20A1-4D71-9291-9DEBC37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034-6F67-4E76-BE77-AC5256E5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A01-C043-42C9-8753-1D1F4DB6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38B-A14D-4046-A348-BA5C39F0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168-AFE6-4BAD-903D-2DBEDA07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E6C-043A-47D8-85D2-E30C1601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AB5-0ACC-4622-82F3-2A7415A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482-1C7B-496D-AD32-2CF3D45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0D879-3360-4F44-BE7B-BBEB0791FC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