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31646"/>
        <c:axId val="65106622"/>
      </c:barChart>
      <c:catAx>
        <c:axId val="65431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06622"/>
        <c:crosses val="autoZero"/>
        <c:auto val="1"/>
        <c:lblAlgn val="ctr"/>
        <c:lblOffset val="100"/>
        <c:noMultiLvlLbl val="0"/>
      </c:catAx>
      <c:valAx>
        <c:axId val="65106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31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748-6259-4A83-802B-B402973E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8CC-5DE1-4B12-975B-FE3CFA9C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0DF-C432-447A-BA38-8CE27215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219-3C4A-48A2-BDA2-DE9AF8E9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3C0-8637-42CE-825D-CA285D67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CAC-96D9-41A9-A555-1C8392A4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068-4BA7-4324-A961-C08337ED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C2B-3CC0-43AB-B4C2-F4113685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288-C195-4ECA-A52F-3C9D8BBA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4A1-D0F5-40FD-8505-6835AE9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B19-DB28-4C37-AB9A-7E5F9453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B22-C5E5-4FE8-97CC-8FBF4C20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50930-4231-4DB0-9E47-54707E4589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